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05B-5E8B-4D67-967B-768EE763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60F-3C82-4322-ACC5-0CC969A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576-E8DE-42A7-85E7-4B9A258B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C83-2598-4E10-B324-6A954C2F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1B8-0012-4B63-83DE-334A5574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4A7E-5D96-4040-BB6D-74731AE7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8BD0-9DD7-47EF-9580-4251105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F78-7B99-4765-9C3C-D62413D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B96E-2F6D-4A68-8778-BD9FF0D0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D54F-FBA5-478D-9CA7-E72978BF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1C7A-C75E-4C1A-A1D3-BFEAB38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F75-6580-4E9B-BB29-7AC084A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4222-31C4-4248-8C9D-EAF09992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F51-EFDE-46DD-B437-DDD85BD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67C4-D37D-423B-A84F-5B17AEA2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2D49-B4EF-4AFA-B8C9-A044900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A2B6-32ED-4E48-BF21-4401FBE5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C60-932A-4447-A2AD-5A7A521A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62C-1E67-43F6-8432-86513E5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83B-5900-46CF-87CD-BE4FE41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3AA-A326-4D3A-8424-90AE2B4C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455-C975-4349-AE34-7AA11062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0A0-8898-4972-B5EF-5DA2E8F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862-231B-436E-ACD6-162865C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5D3-2F04-4DDF-A92C-23D4C4DC46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31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C517-BD25-4630-88C3-812970EDBF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ousing I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7.04 Storag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s: Homes &amp; Interiors, p 538-5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is Web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FC Public Sch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rranging ite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items according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equency –of- us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how often they ar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used i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location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r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cessible) to every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_33620__88460__"/>
          <p:cNvPicPr/>
          <p:nvPr/>
        </p:nvPicPr>
        <p:blipFill>
          <a:blip r:embed="rId1"/>
          <a:stretch/>
        </p:blipFill>
        <p:spPr>
          <a:xfrm>
            <a:off x="5943600" y="2590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safety, put medicines, cleaning products &amp; oth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sons out of r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iners and keep a list of what is wher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Med-cab-lock-02"/>
          <p:cNvPicPr/>
          <p:nvPr/>
        </p:nvPicPr>
        <p:blipFill>
          <a:blip r:embed="rId1"/>
          <a:stretch/>
        </p:blipFill>
        <p:spPr>
          <a:xfrm>
            <a:off x="6095880" y="685800"/>
            <a:ext cx="250524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2070455084_4c6131fc7f_o"/>
          <p:cNvPicPr/>
          <p:nvPr/>
        </p:nvPicPr>
        <p:blipFill>
          <a:blip r:embed="rId2"/>
          <a:stretch/>
        </p:blipFill>
        <p:spPr>
          <a:xfrm>
            <a:off x="2057400" y="388620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Guidelines for Storag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orage needs by deci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what needs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where it needs to b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nalyze existing storage to determine how it can be maxim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add shelf or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ntryhooks"/>
          <p:cNvPicPr/>
          <p:nvPr/>
        </p:nvPicPr>
        <p:blipFill>
          <a:blip r:embed="rId1"/>
          <a:stretch/>
        </p:blipFill>
        <p:spPr>
          <a:xfrm>
            <a:off x="6019920" y="4419720"/>
            <a:ext cx="180972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essyRoom"/>
          <p:cNvPicPr/>
          <p:nvPr/>
        </p:nvPicPr>
        <p:blipFill>
          <a:blip r:embed="rId2"/>
          <a:stretch/>
        </p:blipFill>
        <p:spPr>
          <a:xfrm>
            <a:off x="4876920" y="1295280"/>
            <a:ext cx="3943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can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isible/shelv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idden/behind doors or in drawer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White2430openShelfUP"/>
          <p:cNvPicPr/>
          <p:nvPr/>
        </p:nvPicPr>
        <p:blipFill>
          <a:blip r:embed="rId1"/>
          <a:stretch/>
        </p:blipFill>
        <p:spPr>
          <a:xfrm>
            <a:off x="304920" y="2590920"/>
            <a:ext cx="2187360" cy="32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opkins_shelf_life_oct_05"/>
          <p:cNvPicPr/>
          <p:nvPr/>
        </p:nvPicPr>
        <p:blipFill>
          <a:blip r:embed="rId2"/>
          <a:stretch/>
        </p:blipFill>
        <p:spPr>
          <a:xfrm>
            <a:off x="3352680" y="2438280"/>
            <a:ext cx="2065320" cy="276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0847"/>
          <p:cNvPicPr/>
          <p:nvPr/>
        </p:nvPicPr>
        <p:blipFill>
          <a:blip r:embed="rId3"/>
          <a:stretch/>
        </p:blipFill>
        <p:spPr>
          <a:xfrm>
            <a:off x="5791320" y="3505320"/>
            <a:ext cx="3085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505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an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ilt-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is attached to walls and can not be 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helf3"/>
          <p:cNvPicPr/>
          <p:nvPr/>
        </p:nvPicPr>
        <p:blipFill>
          <a:blip r:embed="rId1"/>
          <a:stretch/>
        </p:blipFill>
        <p:spPr>
          <a:xfrm>
            <a:off x="4572000" y="25909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dju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bc-810x800x300"/>
          <p:cNvPicPr/>
          <p:nvPr/>
        </p:nvPicPr>
        <p:blipFill>
          <a:blip r:embed="rId1"/>
          <a:stretch/>
        </p:blipFill>
        <p:spPr>
          <a:xfrm>
            <a:off x="5486400" y="2666880"/>
            <a:ext cx="3166920" cy="316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djustable%20shelf%20close-up"/>
          <p:cNvPicPr/>
          <p:nvPr/>
        </p:nvPicPr>
        <p:blipFill>
          <a:blip r:embed="rId2"/>
          <a:stretch/>
        </p:blipFill>
        <p:spPr>
          <a:xfrm>
            <a:off x="1143000" y="3124080"/>
            <a:ext cx="38098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u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(storage with different parts that can fit together in different w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Boost-modules001"/>
          <p:cNvPicPr/>
          <p:nvPr/>
        </p:nvPicPr>
        <p:blipFill>
          <a:blip r:embed="rId1"/>
          <a:stretch/>
        </p:blipFill>
        <p:spPr>
          <a:xfrm>
            <a:off x="5334120" y="2514600"/>
            <a:ext cx="3200400" cy="404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oldco_400_01"/>
          <p:cNvPicPr/>
          <p:nvPr/>
        </p:nvPicPr>
        <p:blipFill>
          <a:blip r:embed="rId2"/>
          <a:stretch/>
        </p:blipFill>
        <p:spPr>
          <a:xfrm>
            <a:off x="609480" y="2895480"/>
            <a:ext cx="38102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rtable/ mobil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an be moved. Ex. Rolling carts, shoe racks that can be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BS040MS-1"/>
          <p:cNvPicPr/>
          <p:nvPr/>
        </p:nvPicPr>
        <p:blipFill>
          <a:blip r:embed="rId1"/>
          <a:stretch/>
        </p:blipFill>
        <p:spPr>
          <a:xfrm>
            <a:off x="5029200" y="1981080"/>
            <a:ext cx="323856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103778"/>
          <p:cNvPicPr/>
          <p:nvPr/>
        </p:nvPicPr>
        <p:blipFill>
          <a:blip r:embed="rId2"/>
          <a:stretch/>
        </p:blipFill>
        <p:spPr>
          <a:xfrm>
            <a:off x="838080" y="2895480"/>
            <a:ext cx="33721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95320" y="1294920"/>
            <a:ext cx="4343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mon-use- stor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by all/most members of the home. Linen closet, kitchen cabinets, armoire in 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that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si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asier to f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018"/>
          <p:cNvPicPr/>
          <p:nvPr/>
        </p:nvPicPr>
        <p:blipFill>
          <a:blip r:embed="rId1"/>
          <a:stretch/>
        </p:blipFill>
        <p:spPr>
          <a:xfrm>
            <a:off x="228600" y="2209680"/>
            <a:ext cx="38862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rtical stor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doors &amp;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hooks to hang mops, sports equipment, outdoor/lawn equip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il7-95-06"/>
          <p:cNvPicPr/>
          <p:nvPr/>
        </p:nvPicPr>
        <p:blipFill>
          <a:blip r:embed="rId1"/>
          <a:stretch/>
        </p:blipFill>
        <p:spPr>
          <a:xfrm>
            <a:off x="6019920" y="457200"/>
            <a:ext cx="260352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002_organize_broomcloset_1"/>
          <p:cNvPicPr/>
          <p:nvPr/>
        </p:nvPicPr>
        <p:blipFill>
          <a:blip r:embed="rId2"/>
          <a:stretch/>
        </p:blipFill>
        <p:spPr>
          <a:xfrm>
            <a:off x="3352680" y="251460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5:04:14Z</dcterms:created>
  <dc:creator>WSFCS Workstation</dc:creator>
  <dc:description/>
  <dc:language>en-US</dc:language>
  <cp:lastModifiedBy>s.brooks</cp:lastModifiedBy>
  <dcterms:modified xsi:type="dcterms:W3CDTF">2011-05-05T14:17:16Z</dcterms:modified>
  <cp:revision>8</cp:revision>
  <dc:subject/>
  <dc:title>7.04 Storage</dc:title>
</cp:coreProperties>
</file>